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0B1-BB13-4A24-9397-818C4D78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A45-5917-421D-8FAE-4105C797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D0B-CDA2-4277-A4A4-C8F212FE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337-6C32-4DEF-B765-1F1505CB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A79-7572-489D-9FAD-C010546E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7E6-090C-4B93-962E-9BEB4D53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C60-261B-4F2E-AA8C-0489361E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B69-40C6-4CAD-B80D-8D51E38B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767-02A4-4075-BC85-C1DE710D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BCA-B471-4BFC-A66B-D82DF8B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DC6-37F0-443C-9D17-640E9E54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447-9728-4AC1-AFD9-69734A4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BAC4-9D8B-43DA-88D5-E4F8B4AC2C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5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 and 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logo2"/>
          <p:cNvPicPr/>
          <p:nvPr/>
        </p:nvPicPr>
        <p:blipFill>
          <a:blip r:embed="rId1"/>
          <a:stretch/>
        </p:blipFill>
        <p:spPr>
          <a:xfrm>
            <a:off x="3505320" y="1219320"/>
            <a:ext cx="1971720" cy="7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 do not eat other animals. They survive on plants and are known as “herb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1514520" y="3581280"/>
            <a:ext cx="29052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Object 5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138096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us, eat both plants an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called “om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66688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Object 5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229536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ume” means “ea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um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cause they “eat” (consume) food provided by plants or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1266840" cy="1324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5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304640" cy="12384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7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524240" cy="14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du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living organisms. They need nourishment to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 not eat other plants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called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roduc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because they produce their own food using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predator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91440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t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79132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do b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cat is a predator, because it eats 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ear is a predator, because it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are predators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y animal which is hunted and killed by another animal for food i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4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601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58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86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2209680" y="4038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943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 the predator to its p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10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1441440" cy="17571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1" descr=""/>
          <p:cNvPicPr/>
          <p:nvPr/>
        </p:nvPicPr>
        <p:blipFill>
          <a:blip r:embed="rId2"/>
          <a:stretch/>
        </p:blipFill>
        <p:spPr>
          <a:xfrm>
            <a:off x="6553080" y="44956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6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1719000" cy="14274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7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970200"/>
          </a:xfrm>
          <a:prstGeom prst="rect">
            <a:avLst/>
          </a:prstGeom>
          <a:ln w="0">
            <a:noFill/>
          </a:ln>
        </p:spPr>
      </p:pic>
      <p:sp>
        <p:nvSpPr>
          <p:cNvPr id="121" name="Line 19"/>
          <p:cNvSpPr/>
          <p:nvPr/>
        </p:nvSpPr>
        <p:spPr>
          <a:xfrm>
            <a:off x="5638680" y="3962520"/>
            <a:ext cx="10670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s and 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Object 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91120" cy="279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2"/>
          <p:cNvSpPr/>
          <p:nvPr/>
        </p:nvSpPr>
        <p:spPr>
          <a:xfrm>
            <a:off x="609480" y="4800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predators, some are prey - some are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609480" y="565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edator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a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ey, and the pr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ets eat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y the pred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40652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Line 7"/>
          <p:cNvSpPr/>
          <p:nvPr/>
        </p:nvSpPr>
        <p:spPr>
          <a:xfrm>
            <a:off x="396252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ly is eaten by the thru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 ecosystem refers to all the animals and plants found in one place, and the way they all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ludes all the non-living things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plants and animals live in different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ecosystems can be clos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animals belong to several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35268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rab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1024" descr=""/>
          <p:cNvPicPr/>
          <p:nvPr/>
        </p:nvPicPr>
        <p:blipFill>
          <a:blip r:embed="rId1"/>
          <a:stretch/>
        </p:blipFill>
        <p:spPr>
          <a:xfrm>
            <a:off x="5181480" y="304812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1025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110520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always start with a pl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0" descr=""/>
          <p:cNvPicPr/>
          <p:nvPr/>
        </p:nvPicPr>
        <p:blipFill>
          <a:blip r:embed="rId1"/>
          <a:stretch/>
        </p:blipFill>
        <p:spPr>
          <a:xfrm>
            <a:off x="6429240" y="2362320"/>
            <a:ext cx="2028960" cy="24858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1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110484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2286000" cy="930240"/>
          </a:xfrm>
          <a:prstGeom prst="rect">
            <a:avLst/>
          </a:prstGeom>
          <a:ln w="0">
            <a:noFill/>
          </a:ln>
        </p:spPr>
      </p:pic>
      <p:sp>
        <p:nvSpPr>
          <p:cNvPr id="142" name="Line 8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562720" y="3809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5720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slug, the slug is eaten by the b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- a Rem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ich animals eat other animals or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n’t eat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tarts with what gets eaten and the arrows point towards what does the 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od chains only go in on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do the arrows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0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104840" cy="100944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1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1447560" cy="5889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15717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3" descr=""/>
          <p:cNvPicPr/>
          <p:nvPr/>
        </p:nvPicPr>
        <p:blipFill>
          <a:blip r:embed="rId4"/>
          <a:stretch/>
        </p:blipFill>
        <p:spPr>
          <a:xfrm>
            <a:off x="6934320" y="16002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2" name="Line 8"/>
          <p:cNvSpPr/>
          <p:nvPr/>
        </p:nvSpPr>
        <p:spPr>
          <a:xfrm>
            <a:off x="20574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1148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5"/>
          <a:stretch/>
        </p:blipFill>
        <p:spPr>
          <a:xfrm>
            <a:off x="6553080" y="4648320"/>
            <a:ext cx="1981440" cy="974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6"/>
          <a:stretch/>
        </p:blipFill>
        <p:spPr>
          <a:xfrm>
            <a:off x="3962520" y="4648320"/>
            <a:ext cx="1323720" cy="9334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7"/>
          <a:stretch/>
        </p:blipFill>
        <p:spPr>
          <a:xfrm>
            <a:off x="762120" y="419112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58" name="Line 15"/>
          <p:cNvSpPr/>
          <p:nvPr/>
        </p:nvSpPr>
        <p:spPr>
          <a:xfrm flipH="1">
            <a:off x="548604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26668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top of the food ch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said to be at the top of the food chain. This is because they are not hunted by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Object 0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657520" cy="260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809880" y="4038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 other animal hunts the lion. The lion is at the top of the food chain. Can you think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wild, animals may eat more than one thing, so they belong to more than one food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get the food they need, small herbivores may eat lots of different plants, and carnivores may eat many different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e can show this by using a food web, which is just a more complicated version of a food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858000" y="40384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621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685800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8380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838080" y="55627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838080" y="25146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69343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37339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7816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580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62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78168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7816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r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6576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37160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74674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 flipH="1" flipV="1">
            <a:off x="1981080" y="47242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4724280" y="4571640"/>
            <a:ext cx="19814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 flipH="1" flipV="1">
            <a:off x="1980720" y="3047760"/>
            <a:ext cx="48769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 flipV="1">
            <a:off x="1981080" y="2971800"/>
            <a:ext cx="4800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 flipH="1" flipV="1">
            <a:off x="1980720" y="4572000"/>
            <a:ext cx="4800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eaking th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ganisms living in a habitat depend o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one part of a food chain dies out or is greatly reduced, the consumers have to find alternative food, move away, or st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hen affects more consumers in the sam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dangered or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 this is not true for all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some cases, there are only a few of one type of animal left in the w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ndanger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they die out completely, they becom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tin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ots of reasons why animals become endangered or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comm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s of habitat (woodlands cut down, rivers drying up, hedgerows remov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s or pollution poison the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nting (for sport, their fur, tusks or m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3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874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Object 4" descr=""/>
          <p:cNvPicPr/>
          <p:nvPr/>
        </p:nvPicPr>
        <p:blipFill>
          <a:blip r:embed="rId3"/>
          <a:stretch/>
        </p:blipFill>
        <p:spPr>
          <a:xfrm>
            <a:off x="1828800" y="5599080"/>
            <a:ext cx="99072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5" descr=""/>
          <p:cNvPicPr/>
          <p:nvPr/>
        </p:nvPicPr>
        <p:blipFill>
          <a:blip r:embed="rId4"/>
          <a:stretch/>
        </p:blipFill>
        <p:spPr>
          <a:xfrm>
            <a:off x="2666880" y="2590920"/>
            <a:ext cx="586080" cy="637920"/>
          </a:xfrm>
          <a:prstGeom prst="rect">
            <a:avLst/>
          </a:prstGeom>
          <a:ln w="0">
            <a:noFill/>
          </a:ln>
        </p:spPr>
      </p:pic>
      <p:pic>
        <p:nvPicPr>
          <p:cNvPr id="49" name="Object 7" descr=""/>
          <p:cNvPicPr/>
          <p:nvPr/>
        </p:nvPicPr>
        <p:blipFill>
          <a:blip r:embed="rId5"/>
          <a:stretch/>
        </p:blipFill>
        <p:spPr>
          <a:xfrm>
            <a:off x="6477120" y="2362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Object 8" descr=""/>
          <p:cNvPicPr/>
          <p:nvPr/>
        </p:nvPicPr>
        <p:blipFill>
          <a:blip r:embed="rId6"/>
          <a:stretch/>
        </p:blipFill>
        <p:spPr>
          <a:xfrm>
            <a:off x="7848720" y="533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9" descr=""/>
          <p:cNvPicPr/>
          <p:nvPr/>
        </p:nvPicPr>
        <p:blipFill>
          <a:blip r:embed="rId7"/>
          <a:stretch/>
        </p:blipFill>
        <p:spPr>
          <a:xfrm>
            <a:off x="838080" y="60948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52" name="Object 10" descr=""/>
          <p:cNvPicPr/>
          <p:nvPr/>
        </p:nvPicPr>
        <p:blipFill>
          <a:blip r:embed="rId8"/>
          <a:stretch/>
        </p:blipFill>
        <p:spPr>
          <a:xfrm>
            <a:off x="7772400" y="4114800"/>
            <a:ext cx="781200" cy="56664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1" descr=""/>
          <p:cNvPicPr/>
          <p:nvPr/>
        </p:nvPicPr>
        <p:blipFill>
          <a:blip r:embed="rId9"/>
          <a:stretch/>
        </p:blipFill>
        <p:spPr>
          <a:xfrm>
            <a:off x="4038480" y="3352680"/>
            <a:ext cx="685800" cy="557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14" descr=""/>
          <p:cNvPicPr/>
          <p:nvPr/>
        </p:nvPicPr>
        <p:blipFill>
          <a:blip r:embed="rId10"/>
          <a:stretch/>
        </p:blipFill>
        <p:spPr>
          <a:xfrm>
            <a:off x="609480" y="3733920"/>
            <a:ext cx="106704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hedge"/>
          <p:cNvPicPr/>
          <p:nvPr/>
        </p:nvPicPr>
        <p:blipFill>
          <a:blip r:embed="rId11"/>
          <a:stretch/>
        </p:blipFill>
        <p:spPr>
          <a:xfrm>
            <a:off x="4343400" y="5638680"/>
            <a:ext cx="936720" cy="6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ing for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member - once something becomes extinct, it’s gone for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thing that affects an animal makes up its environment - where it lives, the weather and all the living things it comes into contact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 living thing, including people, has an effect upon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imal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 living things have to be suited to their environment if they are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sh have streamlined bodies, fins and specially shaped tails to help them move quickly and easily through the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quirrels have sharp, strong claws for gripping tree trunks and branches and strong teeth for eating 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w is the seal adapted to its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1027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14720" cy="2600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28"/>
          <p:cNvSpPr/>
          <p:nvPr/>
        </p:nvSpPr>
        <p:spPr>
          <a:xfrm>
            <a:off x="6095880" y="4038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lippers to help i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9"/>
          <p:cNvSpPr/>
          <p:nvPr/>
        </p:nvSpPr>
        <p:spPr>
          <a:xfrm>
            <a:off x="114300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eamline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0"/>
          <p:cNvSpPr/>
          <p:nvPr/>
        </p:nvSpPr>
        <p:spPr>
          <a:xfrm>
            <a:off x="37339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ck layer of body fat to keep i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1"/>
          <p:cNvSpPr/>
          <p:nvPr/>
        </p:nvSpPr>
        <p:spPr>
          <a:xfrm>
            <a:off x="609480" y="342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ong teeth to catch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2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ward-facing eyes for clear vision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3"/>
          <p:cNvSpPr/>
          <p:nvPr/>
        </p:nvSpPr>
        <p:spPr>
          <a:xfrm>
            <a:off x="6094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nd legs have evolved into a a strong rudder-like 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34"/>
          <p:cNvSpPr/>
          <p:nvPr/>
        </p:nvSpPr>
        <p:spPr>
          <a:xfrm>
            <a:off x="2362320" y="2819520"/>
            <a:ext cx="1295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35"/>
          <p:cNvSpPr/>
          <p:nvPr/>
        </p:nvSpPr>
        <p:spPr>
          <a:xfrm flipV="1">
            <a:off x="2666880" y="2971800"/>
            <a:ext cx="2210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36"/>
          <p:cNvSpPr/>
          <p:nvPr/>
        </p:nvSpPr>
        <p:spPr>
          <a:xfrm flipH="1">
            <a:off x="5181480" y="251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7"/>
          <p:cNvSpPr/>
          <p:nvPr/>
        </p:nvSpPr>
        <p:spPr>
          <a:xfrm flipH="1" flipV="1">
            <a:off x="5791320" y="426672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38"/>
          <p:cNvSpPr/>
          <p:nvPr/>
        </p:nvSpPr>
        <p:spPr>
          <a:xfrm flipH="1" flipV="1">
            <a:off x="4343400" y="39625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39"/>
          <p:cNvSpPr/>
          <p:nvPr/>
        </p:nvSpPr>
        <p:spPr>
          <a:xfrm flipV="1">
            <a:off x="2286000" y="46483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es and Habi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animal lives is called its hab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animal lives where it can find food, water, shelter and a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1028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286000" cy="20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living things (organisms) need food (nourishment) to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ing things in an ecosystem depend on each other for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4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the kingfisher, eat only other animals. These animals are called “car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4724280" y="3800520"/>
            <a:ext cx="2305080" cy="26002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5" descr=""/>
          <p:cNvPicPr/>
          <p:nvPr/>
        </p:nvPicPr>
        <p:blipFill>
          <a:blip r:embed="rId2"/>
          <a:stretch/>
        </p:blipFill>
        <p:spPr>
          <a:xfrm>
            <a:off x="2057400" y="4422600"/>
            <a:ext cx="1981080" cy="83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1:58:16Z</dcterms:created>
  <dc:creator>West Borough Primary School</dc:creator>
  <dc:description/>
  <dc:language>en-US</dc:language>
  <cp:lastModifiedBy>kkrautkremer</cp:lastModifiedBy>
  <cp:lastPrinted>2001-06-02T23:25:40Z</cp:lastPrinted>
  <dcterms:modified xsi:type="dcterms:W3CDTF">2010-09-27T15:01:49Z</dcterms:modified>
  <cp:revision>15</cp:revision>
  <dc:subject/>
  <dc:title>West Borough Primary School</dc:title>
</cp:coreProperties>
</file>