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076-E472-4AA9-A1CE-F6594669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146-5BBA-49D8-86F3-F318F4FF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25B-D337-4E00-98F9-18393BA4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21A-1A03-4534-AB85-EE7BC0BC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B6C-C8DB-4E64-9AFE-580CD3C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A72-8E47-4515-854D-1C33F105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8F1-1CB9-4098-B8AA-CBC5B60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69A-AF97-434B-9878-D933574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BA4-611A-4F15-881B-C470A0F0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91E-AD36-401C-B704-0CC4CE5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DB3-56A3-4122-BA8A-B2FEF0D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599-1745-4A94-A8A4-1BF98A5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8FB9-9AE6-4508-A6D5-E67CE0A68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2"/>
          <p:cNvPicPr/>
          <p:nvPr/>
        </p:nvPicPr>
        <p:blipFill>
          <a:blip r:embed="rId1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10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1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6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7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19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2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Line 7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des all the non-living thing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02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025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0" descr=""/>
          <p:cNvPicPr/>
          <p:nvPr/>
        </p:nvPicPr>
        <p:blipFill>
          <a:blip r:embed="rId1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0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" descr=""/>
          <p:cNvPicPr/>
          <p:nvPr/>
        </p:nvPicPr>
        <p:blipFill>
          <a:blip r:embed="rId4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2" name="Line 8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5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6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7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8" name="Line 15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0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4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6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7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8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9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14" descr=""/>
          <p:cNvPicPr/>
          <p:nvPr/>
        </p:nvPicPr>
        <p:blipFill>
          <a:blip r:embed="rId10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edge"/>
          <p:cNvPicPr/>
          <p:nvPr/>
        </p:nvPicPr>
        <p:blipFill>
          <a:blip r:embed="rId11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027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9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0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1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2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3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34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5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6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7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8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39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1028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kkrautkremer</cp:lastModifiedBy>
  <cp:lastPrinted>2001-06-02T23:25:40Z</cp:lastPrinted>
  <dcterms:modified xsi:type="dcterms:W3CDTF">2010-09-27T15:01:49Z</dcterms:modified>
  <cp:revision>15</cp:revision>
  <dc:subject/>
  <dc:title>West Borough Primary School</dc:title>
</cp:coreProperties>
</file>